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wmf" ContentType="image/x-wmf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E95-8EF9-484F-9A5F-1E71C30A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B5A-7035-48AF-A72A-08155311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602-561A-4E6A-B658-245CC54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BE9-39B9-417F-835C-4CD2EA6E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1C5-7916-4523-A81A-198ABD5B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389-E4D7-42EB-93A7-AD0459B7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188-0F7C-44A7-9AE2-52A0A101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ABE-3BEA-4CFD-A4DE-91201088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97E-84BE-4046-AB6D-899B60BD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3CD-4B66-4189-852F-BD24C0DE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D10-5D5F-4299-9AF6-EAF33BE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D34-3E94-4AC9-ABCC-AD50E21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Britann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Britann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Britann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5D59-F9E7-4E6C-851D-65B7978167C6}" type="slidenum">
              <a:rPr b="0" lang="en-US" sz="1200" spc="-1" strike="noStrike">
                <a:solidFill>
                  <a:srgbClr val="898989"/>
                </a:solidFill>
                <a:latin typeface="Britann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2560" y="1828800"/>
            <a:ext cx="7785000" cy="2335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Brailyn Robertson &amp; Rebecca Shigo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4582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n general do more Overweight people eat at Dairy Queen?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Comparison of People Overweight</a:t>
            </a:r>
            <a:endParaRPr b="0" lang="en-US" sz="4000" spc="-1" strike="noStrike">
              <a:solidFill>
                <a:srgbClr val="000000"/>
              </a:solidFill>
              <a:latin typeface="Broadway"/>
            </a:endParaRPr>
          </a:p>
        </p:txBody>
      </p:sp>
      <p:graphicFrame>
        <p:nvGraphicFramePr>
          <p:cNvPr id="87" name="Content Placeholder 2"/>
          <p:cNvGraphicFramePr/>
          <p:nvPr/>
        </p:nvGraphicFramePr>
        <p:xfrm>
          <a:off x="1163520" y="1600200"/>
          <a:ext cx="681696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Content Placeholder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3520" y="1600200"/>
                    <a:ext cx="6816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Graph Analysis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he to are pretty much 50-50%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he date is different than our prediction and what was predicted for the US.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01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 =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² =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Assumptions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State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SR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Checked (as random as possible)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55(.67)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55(1-.67)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Po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10(55)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1876680" cy="685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412880" y="456120"/>
            <a:ext cx="3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1638360" cy="409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1"/>
          <p:cNvSpPr/>
          <p:nvPr/>
        </p:nvSpPr>
        <p:spPr>
          <a:xfrm>
            <a:off x="693432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6780960" y="2819520"/>
            <a:ext cx="533520" cy="838080"/>
            <a:chOff x="6780960" y="2819520"/>
            <a:chExt cx="533520" cy="838080"/>
          </a:xfrm>
        </p:grpSpPr>
        <p:sp>
          <p:nvSpPr>
            <p:cNvPr id="104" name="Straight Connector 13"/>
            <p:cNvSpPr/>
            <p:nvPr/>
          </p:nvSpPr>
          <p:spPr>
            <a:xfrm>
              <a:off x="6780960" y="3353040"/>
              <a:ext cx="228600" cy="30456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  <p:sp>
          <p:nvSpPr>
            <p:cNvPr id="105" name="Straight Connector 16"/>
            <p:cNvSpPr/>
            <p:nvPr/>
          </p:nvSpPr>
          <p:spPr>
            <a:xfrm flipV="1">
              <a:off x="7009560" y="2819520"/>
              <a:ext cx="304920" cy="83808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</p:grpSp>
      <p:grpSp>
        <p:nvGrpSpPr>
          <p:cNvPr id="106" name="Group 18"/>
          <p:cNvGrpSpPr/>
          <p:nvPr/>
        </p:nvGrpSpPr>
        <p:grpSpPr>
          <a:xfrm>
            <a:off x="5637960" y="3504960"/>
            <a:ext cx="533520" cy="1067040"/>
            <a:chOff x="5637960" y="3504960"/>
            <a:chExt cx="533520" cy="1067040"/>
          </a:xfrm>
        </p:grpSpPr>
        <p:sp>
          <p:nvSpPr>
            <p:cNvPr id="107" name="Straight Connector 19"/>
            <p:cNvSpPr/>
            <p:nvPr/>
          </p:nvSpPr>
          <p:spPr>
            <a:xfrm>
              <a:off x="5637960" y="4184280"/>
              <a:ext cx="228600" cy="38772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  <p:sp>
          <p:nvSpPr>
            <p:cNvPr id="108" name="Straight Connector 20"/>
            <p:cNvSpPr/>
            <p:nvPr/>
          </p:nvSpPr>
          <p:spPr>
            <a:xfrm flipV="1">
              <a:off x="5866560" y="3504960"/>
              <a:ext cx="304920" cy="106668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1 Proportion t-Test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o: P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= .67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a: P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&gt; .67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= = -3.114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P- Value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66720" y="2174760"/>
            <a:ext cx="4419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P(z &gt; -3.1114) = .99906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fail to reject ho because the p-value is greater than µ = 0.05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have sufficient evidence that the true proportion is equal to the null hypothesis, P = .67.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onfidence Interval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95% Confidenc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ritannic Bold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z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ritannic Bold"/>
              </a:rPr>
              <a:t>p(1-p)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(.34078, .60467)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are 95% confident  that the true proportion of overweigh people that eat at Dairy Queen is between .34078 and .60467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Is there a relation between the toppings and ice cream flavors in a blizzard?</a:t>
            </a:r>
            <a:endParaRPr b="0" lang="en-US" sz="4000" spc="-1" strike="noStrike">
              <a:solidFill>
                <a:srgbClr val="000000"/>
              </a:solidFill>
              <a:latin typeface="Broad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lizzards Graph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pic>
        <p:nvPicPr>
          <p:cNvPr id="123" name="Content Placeholder 3" descr=""/>
          <p:cNvPicPr/>
          <p:nvPr/>
        </p:nvPicPr>
        <p:blipFill>
          <a:blip r:embed="rId2"/>
          <a:stretch/>
        </p:blipFill>
        <p:spPr>
          <a:xfrm>
            <a:off x="407880" y="1573200"/>
            <a:ext cx="83282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Q Background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The Beginning :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74760"/>
            <a:ext cx="41911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1930’s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First sold during a trial run at a friend's ice cream store in 1938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10 cents, all-you-can-eat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efore the war in 1941 there were only 10 branches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After 1947 there were over 10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47" name="Picture 8" descr="http://becauseitspersonal.files.wordpress.com/2007/06/dairyqueen.jpg"/>
          <p:cNvPicPr/>
          <p:nvPr/>
        </p:nvPicPr>
        <p:blipFill>
          <a:blip r:embed="rId2"/>
          <a:stretch/>
        </p:blipFill>
        <p:spPr>
          <a:xfrm>
            <a:off x="4645080" y="2637000"/>
            <a:ext cx="40417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ackground Cont’d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Dairy Queen Today: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5600 stores in 19 countries across the world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4600 are situated inside the U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52" name="Picture 2" descr="http://www.signswest.com/blog/wp-content/uploads/2009/07/dairy-queen-drop-ship-illuminated-logo-sign-cabinet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s there a difference in the amount of money males and females spend at DQ?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Male vs. Female Spending Graph</a:t>
            </a:r>
            <a:endParaRPr b="0" lang="en-US" sz="4000" spc="-1" strike="noStrike">
              <a:solidFill>
                <a:srgbClr val="000000"/>
              </a:solidFill>
              <a:latin typeface="Broadway"/>
            </a:endParaRPr>
          </a:p>
        </p:txBody>
      </p:sp>
      <p:graphicFrame>
        <p:nvGraphicFramePr>
          <p:cNvPr id="55" name="Text Placeholder 2"/>
          <p:cNvGraphicFramePr/>
          <p:nvPr/>
        </p:nvGraphicFramePr>
        <p:xfrm>
          <a:off x="1623960" y="1905120"/>
          <a:ext cx="5896080" cy="391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Text Placeholder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3960" y="1905120"/>
                    <a:ext cx="589608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Graph Analisis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verall the women seem to spend more than the men.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he highest is an outlier is about $30. This was a woman that came in and bought a cake which is possibly for others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 = .2533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² = .0641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State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2 independent SRS’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2 Normal Populations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30 and 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2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30 and 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2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= 31 and 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2 Sample t-Test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174760"/>
            <a:ext cx="404028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o: µ = 1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a: µ &gt; 1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 =                  = -.921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86200" y="2174760"/>
            <a:ext cx="4952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P(t&gt; -.921l df=38.991) = .8188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 fail to reject Ho because the p-value is greater then µ = 0.05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have sufficient evidence that the average amount of money spent by men and women is equal.   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1" name="Text Placeholder 2"/>
          <p:cNvSpPr/>
          <p:nvPr/>
        </p:nvSpPr>
        <p:spPr>
          <a:xfrm>
            <a:off x="4648320" y="152388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P Value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1228680" cy="1524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onfidence Interval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95% Confidence Interval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(-2.872, 1.0737)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are 95% confident that the true mean of the amount of money males and females spend is between -2.872 and 1.0737 dollars. 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838080" y="2519280"/>
            <a:ext cx="2895840" cy="995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3:21:01Z</dcterms:created>
  <dc:creator> </dc:creator>
  <dc:description/>
  <dc:language>en-US</dc:language>
  <cp:lastModifiedBy>BECKY</cp:lastModifiedBy>
  <dcterms:modified xsi:type="dcterms:W3CDTF">2010-06-09T20:15:01Z</dcterms:modified>
  <cp:revision>31</cp:revision>
  <dc:subject/>
  <dc:title>Dairy Queen  Observational Study </dc:title>
</cp:coreProperties>
</file>